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76A-C5F3-4976-BBEE-82D2A1B7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2F0-E3BD-4ACE-A227-24B4CB7B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998-BA4D-41E5-8A08-280B0C98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9C4-0E08-4B11-BCD8-BB8CE802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B9F-3C58-4B16-8A3C-7BE008FB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D83-729C-454D-B990-30D072E5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A4B-F7BF-49DF-8BCD-9090D50D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9B4-2A72-4C4C-ACA1-10A3EBF4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A3D-B914-419B-A023-D3906F43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14D-EACA-419C-905B-70C8829D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CBF-4CEB-4A8E-AA18-85E3EC55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5E9-4CC3-4DA1-9CE9-E863DF62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84A2-521C-4CF1-8A9D-395D9D315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IMING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70102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3:47Z</dcterms:modified>
  <cp:revision>100</cp:revision>
  <dc:subject/>
  <dc:title>The Art in the State of the Art</dc:title>
</cp:coreProperties>
</file>